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A8E-F3A2-40A9-8C78-88592B9F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02B-4995-4BEE-B308-3C0F4EE4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5F42-4855-493D-A7A2-9F6FA73D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079-34B4-4523-B287-5ECA8793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56E7-C911-457E-B8AE-2F801C13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9223-1764-4551-9E35-AE31898E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E75B-8203-4AF6-9AB9-CBC92211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147A-D481-4468-B86A-65F57F75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8FCB-33D8-495A-A6B6-BCB192A1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3464-2247-4F8B-BB2F-1C42D4E8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D505-FD52-4B6C-A844-D2A2B600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634-F2FC-4B11-8317-EB230BD1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A968-01E6-42BE-8746-C11B585F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037D-766A-41C1-B295-0EAE21C1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D309-BCBD-4354-B73E-6C3BFE28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FDBC-70C9-4C03-A425-DAABF437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4F8E-0FDF-419A-99F2-05B58405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457-99E0-4ADE-B280-C94E6ACA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266-EAE6-4E51-A7E8-87CB1EDB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3C48-403F-4173-9967-C97623D9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4ED-8B44-4F97-984C-72A8F258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DD7-0432-4720-AD71-4FAE5384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F33-2997-4092-80A1-2253944C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E79-BFD3-44A0-B6D1-5CECCB9A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1884-CAB5-4B06-9BA7-1DC8F8CCF7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1F4E-137F-4877-A12F-E2CC3BCF0D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ПРИРОДНИ 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ЗАБЕЛЕЖИТЕЛНОСТИ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      В БЪЛГАРИЯ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ПОВОТО ЕЗЕРО  В 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ПИРИ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АРИ ДЪРВЕТА В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БЪЛГАР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2781000"/>
            <a:ext cx="4427640" cy="31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ъбът край с.Гранит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й-старото дърво 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с.Възрастта му 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близително 16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од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211640" y="1628640"/>
            <a:ext cx="4932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АЙКУШЕВАТА МУРА В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ПИРИ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3284640"/>
            <a:ext cx="3927600" cy="27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ъзрастта й е над 1300 годи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24360" y="1557360"/>
            <a:ext cx="4500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ДКИ ЖИВОТИНСКИ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ВИДОВ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3068640"/>
            <a:ext cx="44323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УФЛО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53290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РИС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ВИДР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ЕЛОГЛАВ ЛЕШОЯ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1380960"/>
            <a:ext cx="7417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РЕН  ЩЪРКЕ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832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ЪДРОГЛАВ  ПЕЛИК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9138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 тези красоти ви запозн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етя Костадин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У “Хан Исперих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град Нови паза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bg-BG" sz="4800" spc="-1" strike="noStrike">
                <a:solidFill>
                  <a:srgbClr val="ffffff"/>
                </a:solidFill>
                <a:latin typeface="Arial"/>
              </a:rPr>
              <a:t>ОПОЗНАЙ РОДИНАТА , ЗА ДА Я ОБИКНЕШ!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bg-BG" sz="4800" spc="-1" strike="noStrike">
                <a:solidFill>
                  <a:srgbClr val="ffffff"/>
                </a:solidFill>
                <a:latin typeface="Arial"/>
              </a:rPr>
              <a:t>Алеко  Константин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СКЪРСКИЯТ  ПРОЛО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УДНИТЕ  МОСТОВ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ЕЛОГРАДЧИШКИТЕ СКАЛ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ЕЩЕРАТА  ЛЕДЕН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890640"/>
            <a:ext cx="91440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ЕЩЕРАТА  ДЯВОЛСКОТО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ГЪРЛ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264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ЕЩЕРАТА  ДУХЛА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6247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СЕДЕМТЕ РИЛСКИ ЕЗЕР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6:26:40Z</dcterms:created>
  <dc:creator>PETQ &amp; KRASI</dc:creator>
  <dc:description/>
  <dc:language>en-US</dc:language>
  <cp:lastModifiedBy>PETQ &amp; KRASI</cp:lastModifiedBy>
  <dcterms:modified xsi:type="dcterms:W3CDTF">2009-01-20T18:51:35Z</dcterms:modified>
  <cp:revision>3</cp:revision>
  <dc:subject/>
  <dc:title>         ПРИРОДНИ    ЗАБЕЛЕЖИТЕЛНОСТИ           В БЪЛГАРИЯ</dc:title>
</cp:coreProperties>
</file>